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40186" dir="1096358"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move the slide</a:t>
            </a:r>
            <a:endParaRPr b="0" lang="en-US" sz="4400" spc="-1" strike="noStrike">
              <a:solidFill>
                <a:srgbClr val="ff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42C2-DAC1-4EFE-8F91-E507F9020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staffdevelop.org/" TargetMode="External"/><Relationship Id="rId2" Type="http://schemas.openxmlformats.org/officeDocument/2006/relationships/hyperlink" Target="http://www.ncrel.org/pd" TargetMode="External"/><Relationship Id="rId3" Type="http://schemas.openxmlformats.org/officeDocument/2006/relationships/hyperlink" Target="http://www.ncrel.org/pd" TargetMode="External"/><Relationship Id="rId4" Type="http://schemas.openxmlformats.org/officeDocument/2006/relationships/hyperlink" Target="http://www.nctaf.org/" TargetMode="External"/><Relationship Id="rId5" Type="http://schemas.openxmlformats.org/officeDocument/2006/relationships/slide" Target="../slides/slide13.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imberly Zern’s paper she states, “This large group presented me with the challenge of keeping everyone focused on the discussion topic, responding to each individual’s questions, bringing the group back on task when the conversation began to fray, and periodically summarize the conversation to move things along and catch up sidetracked partcipants”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ession that was originally scheduled to happen in one place was moved to a different place and time. The attendance was small which could have been due to the change in time and place. It was also quite challenging for the moderator to create an interesting dialogue with just a few people. Also one key member from the research team presenting the information was not present leaving the moderator and the rest of the research team to answer questions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ifornia Superintendents Association, which normally holds bi-monthly meetings on-site in Sacramento tried using the State’s high bandwidth network to meet via videoconferencing (C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conferencing specialist Alan Philips reported that the rough estimation of costs saved for that SINGLE meeting was a staggering $18,000. This costs saved include travel, time, hotel, and food (Ca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years it has been a problem for rural areas to receive the proper professional development in order to meet NCLB mandates. The closest training center sometimes requires rural teaches to travel several hours each way dealing with significant time/travel constraints. In recent years these problems have been compounded by tightening budgets leaving no extra expenses for travel and professional development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has recently grown into the suburbs. Widely distributed school districts now surround large metropolitan areas and teachers must now confront similar problems mentioned earlier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online professional learning, we can now create state, regional, and local networks to provide today’s educators with real support systems that make resources and peer communities readily accessible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irtual support, if provided through a well-structured and effectively facilitated community, can provide novice teachers with a wide range of support options” (Alvar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urrent drop out rates near 50 percent in the first three years of teachers’ careers, there is no overstating the importance of creating a support network for new teachers. That’s why many are starting to rely on eLearning applications to not only deliver professional development, but to aid the building of a professional community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ology can be used to support broad, open-forum discussions, as well as private teacher-to-mentor or teacher-to-supervisor communication. Also, teachers can now connect at any time with other teachers, peers, and mentors anywhere. This helps to eliminate the traditional sense of isolation that many new teachers feel (Pittin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tility and convenience of webinar (e-learning) options are clear. Key capabilities such as streaming video, along with the use of synchronous tools, make distance learning and effective and satisfying interactive experience accessible 24/7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arning can provide deeper, more powerful educational support that can include ongoing, dynamic elements such as document and lesson plan review, working groups, and discussion boards. Such approaches created a true network of learners that can support each other as key lessons get implemented back into the classroom (Pittins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courses, informal support groups, and other network-supported resources open the door to professional development opportunities far beyond what any school or district might me able to offer (Salpe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ffDevelop.org</a:t>
            </a:r>
            <a:r>
              <a:rPr b="0" lang="en-US" sz="1200" spc="-1" strike="noStrike">
                <a:solidFill>
                  <a:srgbClr val="000000"/>
                </a:solidFill>
                <a:latin typeface="Arial"/>
              </a:rPr>
              <a:t> (</a:t>
            </a:r>
            <a:r>
              <a:rPr b="0" lang="en-US" sz="1200" spc="-1" strike="noStrike" u="sng">
                <a:solidFill>
                  <a:srgbClr val="009999"/>
                </a:solidFill>
                <a:uFillTx/>
                <a:latin typeface="Arial"/>
                <a:hlinkClick r:id="rId1"/>
              </a:rPr>
              <a:t>www.staffdevelop.org</a:t>
            </a:r>
            <a:r>
              <a:rPr b="0" lang="en-US" sz="1200" spc="-1" strike="noStrike">
                <a:solidFill>
                  <a:srgbClr val="000000"/>
                </a:solidFill>
                <a:latin typeface="Arial"/>
              </a:rPr>
              <a:t>) Educator and author Jamie McKenzie, editor of From Now On (www.fno.org), has assembled this site with links to his own books, articles, workshops, and videos on professional development, as well as some recommended publications and Web resources from others in the field (Salp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REL Professional Development</a:t>
            </a:r>
            <a:r>
              <a:rPr b="0" lang="en-US" sz="1200" spc="-1" strike="noStrike">
                <a:solidFill>
                  <a:srgbClr val="000000"/>
                </a:solidFill>
                <a:latin typeface="Arial"/>
              </a:rPr>
              <a:t> (</a:t>
            </a:r>
            <a:r>
              <a:rPr b="0" lang="en-US" sz="1200" spc="-1" strike="noStrike" u="sng">
                <a:solidFill>
                  <a:srgbClr val="009999"/>
                </a:solidFill>
                <a:uFillTx/>
                <a:latin typeface="Arial"/>
                <a:hlinkClick r:id="rId2"/>
              </a:rPr>
              <a:t>www.ncrel.org</a:t>
            </a:r>
            <a:r>
              <a:rPr b="0" lang="en-US" sz="1200" spc="-1" strike="noStrike" u="sng">
                <a:solidFill>
                  <a:srgbClr val="009999"/>
                </a:solidFill>
                <a:uFillTx/>
                <a:latin typeface="Arial"/>
                <a:hlinkClick r:id="rId3"/>
              </a:rPr>
              <a:t>/pd</a:t>
            </a:r>
            <a:r>
              <a:rPr b="0" lang="en-US" sz="1200" spc="-1" strike="noStrike">
                <a:solidFill>
                  <a:srgbClr val="000000"/>
                </a:solidFill>
                <a:latin typeface="Arial"/>
              </a:rPr>
              <a:t>) The North Central Regional Educational Laboratory, one of 10 government-supported regional education labs, has a new professional development Web site featuring a comprehensive collection of publications, video examples based on winners of a 1999 national professional development awards program, and other resources for schools (Salp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Commission on Teaching and America's Future</a:t>
            </a:r>
            <a:r>
              <a:rPr b="0" lang="en-US" sz="1200" spc="-1" strike="noStrike">
                <a:solidFill>
                  <a:srgbClr val="000000"/>
                </a:solidFill>
                <a:latin typeface="Arial"/>
              </a:rPr>
              <a:t> (</a:t>
            </a:r>
            <a:r>
              <a:rPr b="0" lang="en-US" sz="1200" spc="-1" strike="noStrike" u="sng">
                <a:solidFill>
                  <a:srgbClr val="009999"/>
                </a:solidFill>
                <a:uFillTx/>
                <a:latin typeface="Arial"/>
                <a:hlinkClick r:id="rId4"/>
              </a:rPr>
              <a:t>www.nctaf.org</a:t>
            </a:r>
            <a:r>
              <a:rPr b="0" lang="en-US" sz="1200" spc="-1" strike="noStrike">
                <a:solidFill>
                  <a:srgbClr val="000000"/>
                </a:solidFill>
                <a:latin typeface="Arial"/>
              </a:rPr>
              <a:t>) This Web site houses numerous reports (including the new No Dream Denied: A Pledge to America's Children), electronic newsletters, case studies, and other resources related to "providing every child with competent, caring, qualified teachers in schools organized for success." (Salpe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ifornia Superintendents Association, which normally holds bi-monthly meetings on-site in Sacramento tried using the State’s high bandwidth network to meet via videoconferencing (Car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conferencing specialist Alan Philips reported that the rough estimation of costs saved for that SINGLE meeting was a staggering $18,000. This costs saved include travel, time, hotel, and food (Car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years it has been a problem for rural areas to receive the proper professional development in order to meet NCLB mandates. The closest training center sometimes requires rural teaches to travel several hours each way dealing with significant time/travel constraints. In recent years these problems have been compounded by tightening budgets leaving no extra expenses for travel and professional development (Pittinsk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has recently grown into the suburbs. Widely distributed school districts now surround large metropolitan areas and teachers must now confront similar problems mentioned earlier (Pittinsk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Professional Development does not require advanced technological skills. Instead, it gives teachers, administrators, and staff a chance to experience the power of technology while learning in a supportive environment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important to help educators consider how they might use technology with their own students and to feel comfortable introducing it into their own classrooms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professional development can extend learning beyond single in-service days and provide creative ways (email, discussion boards, chat rooms) for participants to stay connected with colleagues after the end of a professional development workshop or activity (Treacy, Kleiman, Peterso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authors of No Dream Denied put it, “Technology is perhaps the most important-and most underutilized-tool for providing teachers access to the targeted professional development they need, when and how they need it. Online courses, informal support groups, and other network-supported resources open the door to professional development opportunities far beyond what any school or district might be able to offer.” (Salpe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binars (or E-learning) can supplement face to face activities. In Louisiana, in Calcasieu Parish, a number of face to face professional development activities are supplemented with follow-up discussions and lesson sharing using Blackboard (Salpet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earning provides a way for teachers to interact with colleagues and professionals across time and place and to become part of a global community of lifelong learners (Treacy, Kleiman, Peters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article by Kimberly Zern a situation was talked about where one of the guest speakers of a Webinar offered up virtual coffee and champagne, played with virtual pets, and even warmed the place up with a virtual fire. Even though during this late night session these activities woke people up and sparked interests it also tended to distract participants from staying on topic (Z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Zern’s paper it states, "Beyond the intelligence and technological know-how, moderators must also possess a caring and confident demeanor to help their participants feel comfortable, respected, and important to the discussion” (Ze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other potential problem with e-learning program design is the transfer of face-to-face content and instruction to an e-learning environment. In some cases significant redesign of face-to-face courses is necessary to create effective online programs from face-to-face learning programs” (E-learning for Educato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CD0C9-54EB-4D9C-8F7A-0FC2DEF51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7289-E85F-427E-90C1-704B0EAF8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1DEA1-10F3-4D1E-A5D6-2C0506326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CDA8F-7059-4D40-88ED-2B0864162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46892-2583-4132-A6CE-55D4A27C8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3E829-875A-4851-9604-58A2464D9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283B4-B2FD-48AD-8909-9C78474BF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F2326-FC29-4C8F-AC30-010AB273C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4BCB0-6E01-4B01-B69B-251D1F1A8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8882F-2B24-4298-B296-49A2FB813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FDAE5-816A-4783-8F16-238473AFF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EF62-7AC5-4C01-AC40-BDAEFF5A6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BA401-EDB6-4D1E-8CA0-09EE83C9D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6331-404D-4EDC-AB78-53655C9DF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4E3C0-A2E9-4E85-88AB-0C9D4686B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F99B8-7BD7-4D68-A5C8-545E0FE2A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F3DAE-8A98-47EB-A22D-EF97F4EED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947FA-5426-4C5B-B6C5-748A36D74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55F4-FAB7-4779-B0A4-D07BFB9D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9885-FAFC-4F21-BAF6-B73148BF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9842-BB3D-45AF-A94D-B8CA8436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54FDD-3722-4904-83BC-A2136670B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C363-28E0-4A84-B308-3828D2C8C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81C5-3BEA-4ABE-82C1-DA6C8A1FA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7555-193F-4226-AA99-E9BA942B016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F174-D6A4-4009-9C9B-A24030D5A4B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dewebinars.org/webinars.lasso"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743200"/>
            <a:ext cx="6400800" cy="8128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re Webinars For You?</a:t>
            </a:r>
            <a:endParaRPr b="0" lang="en-US" sz="4400" spc="-1" strike="noStrike">
              <a:solidFill>
                <a:srgbClr val="ff0000"/>
              </a:solidFill>
              <a:latin typeface="Comic Sans MS"/>
            </a:endParaRPr>
          </a:p>
        </p:txBody>
      </p:sp>
      <p:sp>
        <p:nvSpPr>
          <p:cNvPr id="159"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Justen Reiss, Sarah Tiede, Heather West, Ariel Scholz</a:t>
            </a:r>
            <a:endParaRPr b="0" lang="en-US" sz="2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 Continued</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answer all participant question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derator needs to summarize conversation to move things along and catch up sidetracked participant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eting place/time change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etes with other activities that have been reserved for the evenings and weekend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Impact on Education</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ves districts money</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ives educators more opportunities. </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provide a wide range of support options </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nds are made, communities formed.</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help to retain new teachers.</a:t>
            </a:r>
            <a:endParaRPr b="0" lang="en-US" sz="3200" spc="-1" strike="noStrike">
              <a:solidFill>
                <a:srgbClr val="000000"/>
              </a:solidFill>
              <a:latin typeface="Comic Sans MS"/>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Impact Continued</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need to organize release time, arrange for substitutes.</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choices to be offere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chance for follow up discussion and collabor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s up more doors than any district could possibly off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30492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Professional Development</a:t>
            </a:r>
            <a:endParaRPr b="0" lang="en-US" sz="4000" spc="-1" strike="noStrike">
              <a:solidFill>
                <a:srgbClr val="000000"/>
              </a:solidFill>
              <a:latin typeface="Comic Sans MS"/>
            </a:endParaRPr>
          </a:p>
        </p:txBody>
      </p:sp>
      <p:sp>
        <p:nvSpPr>
          <p:cNvPr id="188" name="PlaceHolder 2"/>
          <p:cNvSpPr>
            <a:spLocks noGrp="1"/>
          </p:cNvSpPr>
          <p:nvPr>
            <p:ph/>
          </p:nvPr>
        </p:nvSpPr>
        <p:spPr>
          <a:xfrm>
            <a:off x="228600" y="1828800"/>
            <a:ext cx="868680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nnsylvania Department of Education - http://www.pdewebinars.or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ffDevelop.or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CREL Professional Development – www.ncrel.org/pd</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tional Commission on Teaching and America’s Future – www.nctaf.org</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binar Walk Through</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pdewebinars.org/webinars.lasso</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Online Learning Resource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bout Learning.com  http://www.aboutlearning.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ucational Impact http://www.educationalimpact.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BS TeacherLine - http://teacherline.pbs.org</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TO Learning http://www.plato.com/k12/professional</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ycom - http://www.polycom.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S inSchool – http://www.sasinschool.com</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Net – http://starnet.org</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chnology Information Center for Administrative Leaders – http://portical.org</a:t>
            </a:r>
            <a:endParaRPr b="0" lang="en-US" sz="2000" spc="-1" strike="noStrike">
              <a:solidFill>
                <a:srgbClr val="000000"/>
              </a:solidFill>
              <a:latin typeface="Comic Sans MS"/>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ter)</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04920"/>
            <a:ext cx="687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219320"/>
            <a:ext cx="7696080" cy="3657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varado, A. (2006). </a:t>
            </a:r>
            <a:r>
              <a:rPr b="0" i="1" lang="en-US" sz="2200" spc="-1" strike="noStrike">
                <a:solidFill>
                  <a:srgbClr val="000000"/>
                </a:solidFill>
                <a:latin typeface="Comic Sans MS"/>
              </a:rPr>
              <a:t>New Directions in Teacher Education: Emerging Strategies From the Teachers for a New Era Initiative</a:t>
            </a:r>
            <a:r>
              <a:rPr b="0" lang="en-US" sz="2200" spc="-1" strike="noStrike">
                <a:solidFill>
                  <a:srgbClr val="000000"/>
                </a:solidFill>
                <a:latin typeface="Comic Sans MS"/>
              </a:rPr>
              <a:t>. Presented at the American Educational Research Association (AERA), San Francisco, CA, April 8, 2006.</a:t>
            </a:r>
            <a:endParaRPr b="0" lang="en-US" sz="2200" spc="-1" strike="noStrike">
              <a:solidFill>
                <a:srgbClr val="000000"/>
              </a:solidFill>
              <a:latin typeface="Comic Sans MS"/>
            </a:endParaRPr>
          </a:p>
          <a:p>
            <a:pPr marL="343080" indent="-3430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arter, K. (2004, May 15). Online Training: What's Really Working. In t</a:t>
            </a:r>
            <a:r>
              <a:rPr b="0" i="1" lang="en-US" sz="2200" spc="-1" strike="noStrike">
                <a:solidFill>
                  <a:srgbClr val="000000"/>
                </a:solidFill>
                <a:latin typeface="Comic Sans MS"/>
              </a:rPr>
              <a:t>echLearning</a:t>
            </a:r>
            <a:r>
              <a:rPr b="0" lang="en-US" sz="2200" spc="-1" strike="noStrike">
                <a:solidFill>
                  <a:srgbClr val="000000"/>
                </a:solidFill>
                <a:latin typeface="Comic Sans MS"/>
              </a:rPr>
              <a:t>. Retrieved December 2, 2007, from</a:t>
            </a:r>
            <a:br>
              <a:rPr sz="2200"/>
            </a:br>
            <a:r>
              <a:rPr b="0" lang="en-US" sz="2200" spc="-1" strike="noStrike">
                <a:solidFill>
                  <a:srgbClr val="000000"/>
                </a:solidFill>
                <a:latin typeface="Comic Sans MS"/>
              </a:rPr>
              <a:t>http://www.techlearning.com/shared/printableArticle.jhtml?articleID=20300252 </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195" name=""/>
          <p:cNvSpPr/>
          <p:nvPr/>
        </p:nvSpPr>
        <p:spPr>
          <a:xfrm>
            <a:off x="609480" y="1143000"/>
            <a:ext cx="769644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 (cont.)</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066680"/>
            <a:ext cx="7696080" cy="42674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crosoft Publishing.  (2006).  Microsoft Office Clip Art.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ional Institute for community innovations. (2001). </a:t>
            </a:r>
            <a:r>
              <a:rPr b="0" i="1" lang="en-US" sz="2000" spc="-1" strike="noStrike">
                <a:solidFill>
                  <a:srgbClr val="000000"/>
                </a:solidFill>
                <a:latin typeface="Comic Sans MS"/>
              </a:rPr>
              <a:t>E-learning for educators</a:t>
            </a:r>
            <a:r>
              <a:rPr b="0" lang="en-US" sz="2000" spc="-1" strike="noStrike">
                <a:solidFill>
                  <a:srgbClr val="000000"/>
                </a:solidFill>
                <a:latin typeface="Comic Sans MS"/>
              </a:rPr>
              <a:t> [Brochure]. National Staff Development Council.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nnsylvania Department of Education.  Educational Technology – Webinars.  http://www.pdewebinars.org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ttinsky, M. (2005). No Teacher Left Behind. In</a:t>
            </a:r>
            <a:r>
              <a:rPr b="0" i="1" lang="en-US" sz="2000" spc="-1" strike="noStrike">
                <a:solidFill>
                  <a:srgbClr val="000000"/>
                </a:solidFill>
                <a:latin typeface="Comic Sans MS"/>
              </a:rPr>
              <a:t>THE Journal</a:t>
            </a:r>
            <a:r>
              <a:rPr b="0" lang="en-US" sz="2000" spc="-1" strike="noStrike">
                <a:solidFill>
                  <a:srgbClr val="000000"/>
                </a:solidFill>
                <a:latin typeface="Comic Sans MS"/>
              </a:rPr>
              <a:t>. Retrieved December 1, 2007, from http://www.thejournal.com/the/printarticle/?id=17322 </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peter, J..  (2003).  </a:t>
            </a:r>
            <a:r>
              <a:rPr b="0" i="1" lang="en-US" sz="2000" spc="-1" strike="noStrike">
                <a:solidFill>
                  <a:srgbClr val="000000"/>
                </a:solidFill>
                <a:latin typeface="Comic Sans MS"/>
              </a:rPr>
              <a:t>Professional Development:21st Century Models.  </a:t>
            </a:r>
            <a:r>
              <a:rPr b="0" lang="en-US" sz="2000" spc="-1" strike="noStrike">
                <a:solidFill>
                  <a:srgbClr val="000000"/>
                </a:solidFill>
                <a:latin typeface="Comic Sans MS"/>
              </a:rPr>
              <a:t>Retrieved on November 15, 2007 from http://www.techlearning.com/shared/printableArticle.jhtml?articleID=13000492</a:t>
            </a:r>
            <a:endParaRPr b="0" lang="en-US" sz="2000" spc="-1" strike="noStrike">
              <a:solidFill>
                <a:srgbClr val="000000"/>
              </a:solidFill>
              <a:latin typeface="Comic Sans MS"/>
            </a:endParaRPr>
          </a:p>
          <a:p>
            <a:pPr marL="332640" indent="-3326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hlager, M., Fusco, J., Koch, M., Crawford, V., Phillips, M. (2003, July). </a:t>
            </a:r>
            <a:r>
              <a:rPr b="0" i="1" lang="en-US" sz="2000" spc="-1" strike="noStrike">
                <a:solidFill>
                  <a:srgbClr val="000000"/>
                </a:solidFill>
                <a:latin typeface="Comic Sans MS"/>
              </a:rPr>
              <a:t>Designing Equity and Diversity into Online Strategies to Support New Teachers</a:t>
            </a:r>
            <a:r>
              <a:rPr b="0" lang="en-US" sz="2000" spc="-1" strike="noStrike">
                <a:solidFill>
                  <a:srgbClr val="000000"/>
                </a:solidFill>
                <a:latin typeface="Comic Sans MS"/>
              </a:rPr>
              <a:t>. Presented at NECC 2003, Seattle, WA.</a:t>
            </a:r>
            <a:endParaRPr b="0" lang="en-US" sz="2000" spc="-1" strike="noStrike">
              <a:solidFill>
                <a:srgbClr val="000000"/>
              </a:solidFill>
              <a:latin typeface="Comic Sans MS"/>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151920"/>
            <a:ext cx="687096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Resources (cont.)</a:t>
            </a:r>
            <a:endParaRPr b="0" lang="en-US" sz="4400" spc="-1" strike="noStrike">
              <a:solidFill>
                <a:srgbClr val="000000"/>
              </a:solidFill>
              <a:latin typeface="Comic Sans MS"/>
            </a:endParaRPr>
          </a:p>
        </p:txBody>
      </p:sp>
      <p:sp>
        <p:nvSpPr>
          <p:cNvPr id="199" name="PlaceHolder 2"/>
          <p:cNvSpPr>
            <a:spLocks noGrp="1"/>
          </p:cNvSpPr>
          <p:nvPr>
            <p:ph/>
          </p:nvPr>
        </p:nvSpPr>
        <p:spPr>
          <a:xfrm>
            <a:off x="609120" y="838080"/>
            <a:ext cx="7696440" cy="464832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cy, B.; Kleiman, G.; &amp; Peterson, K.  (2002).  Successful Online Professional Development.  (2002).  </a:t>
            </a:r>
            <a:r>
              <a:rPr b="0" i="1" lang="en-US" sz="2000" spc="-1" strike="noStrike">
                <a:solidFill>
                  <a:srgbClr val="000000"/>
                </a:solidFill>
                <a:latin typeface="Comic Sans MS"/>
              </a:rPr>
              <a:t>Learning &amp; Leading with Technology, 30(1).</a:t>
            </a:r>
            <a:r>
              <a:rPr b="0" lang="en-US" sz="2000" spc="-1" strike="noStrike">
                <a:solidFill>
                  <a:srgbClr val="000000"/>
                </a:solidFill>
                <a:latin typeface="Comic Sans MS"/>
              </a:rPr>
              <a:t>  Retrieved on November 24, 2007 from http://www.edtechleaders.org/about/research/articles/SuccessfulOPD.pdf</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onferencing Image retrieved from http://www.conferenceshow.com/images/cshow.net</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omedia – </a:t>
            </a:r>
            <a:r>
              <a:rPr b="0" i="1" lang="en-US" sz="2000" spc="-1" strike="noStrike">
                <a:solidFill>
                  <a:srgbClr val="000000"/>
                </a:solidFill>
                <a:latin typeface="Comic Sans MS"/>
              </a:rPr>
              <a:t>What is Webinar</a:t>
            </a:r>
            <a:r>
              <a:rPr b="0" lang="en-US" sz="2000" spc="-1" strike="noStrike">
                <a:solidFill>
                  <a:srgbClr val="000000"/>
                </a:solidFill>
                <a:latin typeface="Comic Sans MS"/>
              </a:rPr>
              <a:t>.  Retrieved on December 10, 2007 from http://www.webopdedia.com</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ern, K. (2001). </a:t>
            </a:r>
            <a:r>
              <a:rPr b="0" i="1" lang="en-US" sz="2000" spc="-1" strike="noStrike">
                <a:solidFill>
                  <a:srgbClr val="000000"/>
                </a:solidFill>
                <a:latin typeface="Comic Sans MS"/>
              </a:rPr>
              <a:t>Tapped In’s After School Online Program: Teacher Professional Development on the Internet</a:t>
            </a:r>
            <a:r>
              <a:rPr b="0" lang="en-US" sz="2000" spc="-1" strike="noStrike">
                <a:solidFill>
                  <a:srgbClr val="000000"/>
                </a:solidFill>
                <a:latin typeface="Comic Sans MS"/>
              </a:rPr>
              <a:t>. Class project final repor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0" name=""/>
          <p:cNvSpPr/>
          <p:nvPr/>
        </p:nvSpPr>
        <p:spPr>
          <a:xfrm>
            <a:off x="685800" y="1828800"/>
            <a:ext cx="769608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What are Webinars?</a:t>
            </a:r>
            <a:endParaRPr b="0" lang="en-US" sz="4400" spc="-1" strike="noStrike">
              <a:solidFill>
                <a:srgbClr val="000000"/>
              </a:solidFill>
              <a:latin typeface="Comic Sans MS"/>
            </a:endParaRPr>
          </a:p>
        </p:txBody>
      </p:sp>
      <p:sp>
        <p:nvSpPr>
          <p:cNvPr id="161" name="PlaceHolder 2"/>
          <p:cNvSpPr>
            <a:spLocks noGrp="1"/>
          </p:cNvSpPr>
          <p:nvPr>
            <p:ph/>
          </p:nvPr>
        </p:nvSpPr>
        <p:spPr>
          <a:xfrm>
            <a:off x="228600" y="2362320"/>
            <a:ext cx="502920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ebinar is a “web</a:t>
            </a:r>
            <a:r>
              <a:rPr b="0" i="1" lang="en-US" sz="2400" spc="-1" strike="noStrike">
                <a:solidFill>
                  <a:srgbClr val="000000"/>
                </a:solidFill>
                <a:latin typeface="Comic Sans MS"/>
              </a:rPr>
              <a:t>-</a:t>
            </a:r>
            <a:r>
              <a:rPr b="0" lang="en-US" sz="2400" spc="-1" strike="noStrike">
                <a:solidFill>
                  <a:srgbClr val="000000"/>
                </a:solidFill>
                <a:latin typeface="Comic Sans MS"/>
              </a:rPr>
              <a:t>based </a:t>
            </a:r>
            <a:r>
              <a:rPr b="0" i="1" lang="en-US" sz="2400" spc="-1" strike="noStrike">
                <a:solidFill>
                  <a:srgbClr val="000000"/>
                </a:solidFill>
                <a:latin typeface="Comic Sans MS"/>
              </a:rPr>
              <a:t>s</a:t>
            </a:r>
            <a:r>
              <a:rPr b="0" lang="en-US" sz="2400" spc="-1" strike="noStrike">
                <a:solidFill>
                  <a:srgbClr val="000000"/>
                </a:solidFill>
                <a:latin typeface="Comic Sans MS"/>
              </a:rPr>
              <a:t>eminar, a presentation, lecture, or workshop that is transmitted over the Web.” (Webopedia)</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virtual training and e-learning</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5486400" y="2438280"/>
            <a:ext cx="3124080" cy="2586240"/>
          </a:xfrm>
          <a:prstGeom prst="rect">
            <a:avLst/>
          </a:prstGeom>
          <a:ln w="0">
            <a:noFill/>
          </a:ln>
        </p:spPr>
      </p:pic>
      <p:sp>
        <p:nvSpPr>
          <p:cNvPr id="163" name=""/>
          <p:cNvSpPr/>
          <p:nvPr/>
        </p:nvSpPr>
        <p:spPr>
          <a:xfrm>
            <a:off x="6248520" y="5105520"/>
            <a:ext cx="1600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icrosoft Office Clip Ar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Key Feature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line discussion through chat window</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ticipation from any loc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inar handouts on presentation</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cilitator usually referred to as moderator</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System Requirements</a:t>
            </a:r>
            <a:endParaRPr b="0" lang="en-US" sz="4400" spc="-1" strike="noStrike">
              <a:solidFill>
                <a:srgbClr val="000000"/>
              </a:solidFill>
              <a:latin typeface="Comic Sans MS"/>
            </a:endParaRPr>
          </a:p>
        </p:txBody>
      </p:sp>
      <p:pic>
        <p:nvPicPr>
          <p:cNvPr id="167" name="" descr=""/>
          <p:cNvPicPr/>
          <p:nvPr/>
        </p:nvPicPr>
        <p:blipFill>
          <a:blip r:embed="rId1"/>
          <a:stretch/>
        </p:blipFill>
        <p:spPr>
          <a:xfrm>
            <a:off x="990720" y="990720"/>
            <a:ext cx="6476760" cy="4343400"/>
          </a:xfrm>
          <a:prstGeom prst="rect">
            <a:avLst/>
          </a:prstGeom>
          <a:ln w="0">
            <a:noFill/>
          </a:ln>
        </p:spPr>
      </p:pic>
      <p:sp>
        <p:nvSpPr>
          <p:cNvPr id="168" name=""/>
          <p:cNvSpPr/>
          <p:nvPr/>
        </p:nvSpPr>
        <p:spPr>
          <a:xfrm>
            <a:off x="3581280" y="5562720"/>
            <a:ext cx="22100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onference Show-Web Conferenc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Why Webinars?</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ue to the increasing demand for professional development among educators today, webinars provide an alternative to the traditional seminar or workshop form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Positive Aspects</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447920"/>
            <a:ext cx="7696080" cy="3657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atively inexpensiv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ility to reach a larger audience</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travel time and expense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duces teachers time out of clas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active (combining audio and visual present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Verdana"/>
              </a:rPr>
              <a:t>Positive Aspects (cont.)</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anchor="t">
            <a:normAutofit fontScale="99000"/>
          </a:bodyPr>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rs do not need advanced technological skills</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ourages the use of technology</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 for information sharing </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motes learning beyond the workshop/training.</a:t>
            </a:r>
            <a:endParaRPr b="0" lang="en-US" sz="2800" spc="-1" strike="noStrike">
              <a:solidFill>
                <a:srgbClr val="000000"/>
              </a:solidFill>
              <a:latin typeface="Comic Sans MS"/>
            </a:endParaRPr>
          </a:p>
          <a:p>
            <a:pPr marL="339480" indent="-33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sters global collaboration with professiona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sy for participants to get distrac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late to join sess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litches in software and hard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enough technical suppor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ternet connection lost or slow.</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77" name="" descr=""/>
          <p:cNvPicPr/>
          <p:nvPr/>
        </p:nvPicPr>
        <p:blipFill>
          <a:blip r:embed="rId1"/>
          <a:stretch/>
        </p:blipFill>
        <p:spPr>
          <a:xfrm>
            <a:off x="228600" y="304920"/>
            <a:ext cx="1224000" cy="1371600"/>
          </a:xfrm>
          <a:prstGeom prst="rect">
            <a:avLst/>
          </a:prstGeom>
          <a:ln w="0">
            <a:noFill/>
          </a:ln>
        </p:spPr>
      </p:pic>
      <p:pic>
        <p:nvPicPr>
          <p:cNvPr id="178" name="" descr=""/>
          <p:cNvPicPr/>
          <p:nvPr/>
        </p:nvPicPr>
        <p:blipFill>
          <a:blip r:embed="rId2"/>
          <a:stretch/>
        </p:blipFill>
        <p:spPr>
          <a:xfrm>
            <a:off x="7238880" y="5257800"/>
            <a:ext cx="12240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omic Sans MS"/>
              </a:rPr>
              <a:t>Negative Aspects Continued</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r Erro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derator must have trai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s time to learn the online 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rtual meetings vs. Face to face meeting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9:58:29Z</dcterms:created>
  <dc:creator>testaccount</dc:creator>
  <dc:description/>
  <dc:language>en-US</dc:language>
  <cp:lastModifiedBy>KU KU</cp:lastModifiedBy>
  <cp:lastPrinted>2008-02-25T21:49:16Z</cp:lastPrinted>
  <dcterms:modified xsi:type="dcterms:W3CDTF">2008-02-25T22:31:50Z</dcterms:modified>
  <cp:revision>42</cp:revision>
  <dc:subject/>
  <dc:title>Webinars/Virtual Training</dc:title>
</cp:coreProperties>
</file>